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D09-97F2-4263-8B50-6041AC08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F72-13ED-4FCA-9AEA-7FEF10AE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C67-460B-47A3-9F2A-A77AA6D0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FB2-6F65-4DC1-9C35-0492AA7B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3F4-5E50-4F08-A3F8-425D3E6A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2FD-11DF-4817-BEA2-39CA80E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A7D-69CE-4426-B9C0-FA74AA21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A43-B439-4B21-8CF0-5E9156D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629-A005-43B8-9DE0-BCFEB71F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37C-737B-439A-A523-A632FBF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020-D113-4970-AD18-DB56008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A12-A1DF-47F7-9EBB-0F0941C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BFB5-2F02-4B22-B512-AA9E53BA0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hyperlink" Target="file:///tmp/home/.config/libreoffice/4/user/gallery/chimes.wav" TargetMode="External"/><Relationship Id="rId36" Type="http://schemas.openxmlformats.org/officeDocument/2006/relationships/hyperlink" Target="file:///tmp/home/.config/libreoffice/4/user/gallery/explode.wav" TargetMode="External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chimes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explode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explode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chimes.wav" TargetMode="External"/><Relationship Id="rId19" Type="http://schemas.openxmlformats.org/officeDocument/2006/relationships/hyperlink" Target="file:///tmp/home/.config/libreoffice/4/user/gallery/chimes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explode.wav" TargetMode="External"/><Relationship Id="rId22" Type="http://schemas.openxmlformats.org/officeDocument/2006/relationships/hyperlink" Target="file:///tmp/home/.config/libreoffice/4/user/gallery/explode.wav" TargetMode="External"/><Relationship Id="rId23" Type="http://schemas.openxmlformats.org/officeDocument/2006/relationships/hyperlink" Target="file:///tmp/home/.config/libreoffice/4/user/gallery/explode.wav" TargetMode="External"/><Relationship Id="rId24" Type="http://schemas.openxmlformats.org/officeDocument/2006/relationships/hyperlink" Target="file:///tmp/home/.config/libreoffice/4/user/gallery/explode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chimes.wav" TargetMode="External"/><Relationship Id="rId27" Type="http://schemas.openxmlformats.org/officeDocument/2006/relationships/hyperlink" Target="file:///tmp/home/.config/libreoffice/4/user/gallery/chimes.wav" TargetMode="Externa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hyperlink" Target="file:///tmp/home/.config/libreoffice/4/user/gallery/explode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hyperlink" Target="file:///tmp/home/.config/libreoffice/4/user/gallery/explode.wav" TargetMode="External"/><Relationship Id="rId33" Type="http://schemas.openxmlformats.org/officeDocument/2006/relationships/hyperlink" Target="file:///tmp/home/.config/libreoffice/4/user/gallery/explode.wav" TargetMode="External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hyperlink" Target="file:///tmp/home/.config/libreoffice/4/user/gallery/chimes.wav" TargetMode="External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AutoShape 36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45" name="AutoShape 36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AutoShape 37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48" name="AutoShape 37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AutoShape 38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51" name="AutoShape 38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utoShape 39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54" name="AutoShape 39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AutoShape 40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57" name="AutoShape 40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41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7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(-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7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8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0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1">
            <a:hlinkClick r:id="rId10"/>
          </p:cNvPr>
          <p:cNvSpPr/>
          <p:nvPr/>
        </p:nvSpPr>
        <p:spPr>
          <a:xfrm>
            <a:off x="900000" y="530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2268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3">
            <a:hlinkClick r:id="rId11"/>
          </p:cNvPr>
          <p:cNvSpPr/>
          <p:nvPr/>
        </p:nvSpPr>
        <p:spPr>
          <a:xfrm>
            <a:off x="2340000" y="2349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4">
            <a:hlinkClick r:id="rId12"/>
          </p:cNvPr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5">
            <a:hlinkClick r:id="rId13"/>
          </p:cNvPr>
          <p:cNvSpPr/>
          <p:nvPr/>
        </p:nvSpPr>
        <p:spPr>
          <a:xfrm>
            <a:off x="2484360" y="386064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6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8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9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0">
            <a:hlinkClick r:id="rId18"/>
          </p:cNvPr>
          <p:cNvSpPr/>
          <p:nvPr/>
        </p:nvSpPr>
        <p:spPr>
          <a:xfrm>
            <a:off x="550872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1">
            <a:hlinkClick r:id="rId19"/>
          </p:cNvPr>
          <p:cNvSpPr/>
          <p:nvPr/>
        </p:nvSpPr>
        <p:spPr>
          <a:xfrm>
            <a:off x="57974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2">
            <a:hlinkClick r:id="rId20"/>
          </p:cNvPr>
          <p:cNvSpPr/>
          <p:nvPr/>
        </p:nvSpPr>
        <p:spPr>
          <a:xfrm>
            <a:off x="7162920" y="2205000"/>
            <a:ext cx="1369800" cy="1152720"/>
          </a:xfrm>
          <a:custGeom>
            <a:avLst/>
            <a:gdLst>
              <a:gd name="textAreaLeft" fmla="*/ 74520 w 1369800"/>
              <a:gd name="textAreaRight" fmla="*/ 1295280 w 13698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5666" h="21600">
                <a:moveTo>
                  <a:pt x="0" y="0"/>
                </a:moveTo>
                <a:lnTo>
                  <a:pt x="25666" y="0"/>
                </a:lnTo>
                <a:lnTo>
                  <a:pt x="25666" y="21600"/>
                </a:lnTo>
                <a:lnTo>
                  <a:pt x="0" y="21600"/>
                </a:lnTo>
                <a:close/>
              </a:path>
              <a:path fill="lightenLess" w="25666" h="21600">
                <a:moveTo>
                  <a:pt x="0" y="0"/>
                </a:moveTo>
                <a:lnTo>
                  <a:pt x="25666" y="0"/>
                </a:lnTo>
                <a:lnTo>
                  <a:pt x="24267" y="1400"/>
                </a:lnTo>
                <a:lnTo>
                  <a:pt x="1400" y="1400"/>
                </a:lnTo>
                <a:close/>
              </a:path>
              <a:path fill="darken" w="25666" h="21600">
                <a:moveTo>
                  <a:pt x="25666" y="0"/>
                </a:moveTo>
                <a:lnTo>
                  <a:pt x="25666" y="21600"/>
                </a:lnTo>
                <a:lnTo>
                  <a:pt x="24267" y="20200"/>
                </a:lnTo>
                <a:lnTo>
                  <a:pt x="24267" y="1400"/>
                </a:lnTo>
                <a:close/>
              </a:path>
              <a:path fill="darkenLess" w="25666" h="21600">
                <a:moveTo>
                  <a:pt x="25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67" y="20200"/>
                </a:lnTo>
                <a:close/>
              </a:path>
              <a:path fill="lighten" w="25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3">
            <a:hlinkClick r:id="rId21"/>
          </p:cNvPr>
          <p:cNvSpPr/>
          <p:nvPr/>
        </p:nvSpPr>
        <p:spPr>
          <a:xfrm>
            <a:off x="74516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4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5">
            <a:hlinkClick r:id="rId23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6">
            <a:hlinkClick r:id="rId24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7">
            <a:hlinkClick r:id="rId25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8">
            <a:hlinkClick r:id="rId26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9">
            <a:hlinkClick r:id="rId27"/>
          </p:cNvPr>
          <p:cNvSpPr/>
          <p:nvPr/>
        </p:nvSpPr>
        <p:spPr>
          <a:xfrm>
            <a:off x="75247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1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3">
            <a:hlinkClick r:id="rId31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5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6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99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102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9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105" name="AutoShape 39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40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108" name="AutoShape 40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111" name="AutoShape 41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8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4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8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0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2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3">
            <a:hlinkClick r:id="rId10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5">
            <a:hlinkClick r:id="rId11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6">
            <a:hlinkClick r:id="rId12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>
            <a:hlinkClick r:id="rId13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8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0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>
            <a:hlinkClick r:id="rId18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>
            <a:hlinkClick r:id="rId19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4">
            <a:hlinkClick r:id="rId20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>
            <a:hlinkClick r:id="rId21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6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7">
            <a:hlinkClick r:id="rId23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8">
            <a:hlinkClick r:id="rId24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9">
            <a:hlinkClick r:id="rId25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0">
            <a:hlinkClick r:id="rId26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1">
            <a:hlinkClick r:id="rId27"/>
          </p:cNvPr>
          <p:cNvSpPr/>
          <p:nvPr/>
        </p:nvSpPr>
        <p:spPr>
          <a:xfrm>
            <a:off x="752472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2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3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4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5">
            <a:hlinkClick r:id="rId31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6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7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9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2">
            <a:hlinkClick r:id="rId35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3">
            <a:hlinkClick r:id="rId36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155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158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39"/>
          <p:cNvSpPr/>
          <p:nvPr/>
        </p:nvSpPr>
        <p:spPr>
          <a:xfrm>
            <a:off x="378000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0"/>
          <p:cNvGrpSpPr/>
          <p:nvPr/>
        </p:nvGrpSpPr>
        <p:grpSpPr>
          <a:xfrm>
            <a:off x="5357880" y="542880"/>
            <a:ext cx="1450800" cy="1236600"/>
            <a:chOff x="5357880" y="542880"/>
            <a:chExt cx="1450800" cy="1236600"/>
          </a:xfrm>
        </p:grpSpPr>
        <p:pic>
          <p:nvPicPr>
            <p:cNvPr id="162" name="AutoShape 40" descr=""/>
            <p:cNvPicPr/>
            <p:nvPr/>
          </p:nvPicPr>
          <p:blipFill>
            <a:blip r:embed="rId3"/>
            <a:stretch/>
          </p:blipFill>
          <p:spPr>
            <a:xfrm>
              <a:off x="535788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6400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165" name="AutoShape 41" descr=""/>
            <p:cNvPicPr/>
            <p:nvPr/>
          </p:nvPicPr>
          <p:blipFill>
            <a:blip r:embed="rId4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4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8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*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 *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 *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>
            <a:hlinkClick r:id="rId5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0">
            <a:hlinkClick r:id="rId6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>
            <a:hlinkClick r:id="rId7"/>
          </p:cNvPr>
          <p:cNvSpPr/>
          <p:nvPr/>
        </p:nvSpPr>
        <p:spPr>
          <a:xfrm>
            <a:off x="826920" y="38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2">
            <a:hlinkClick r:id="rId8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3">
            <a:hlinkClick r:id="rId9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5">
            <a:hlinkClick r:id="rId10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6">
            <a:hlinkClick r:id="rId11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7">
            <a:hlinkClick r:id="rId12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8">
            <a:hlinkClick r:id="rId13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9">
            <a:hlinkClick r:id="rId14"/>
          </p:cNvPr>
          <p:cNvSpPr/>
          <p:nvPr/>
        </p:nvSpPr>
        <p:spPr>
          <a:xfrm>
            <a:off x="2484360" y="5302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0">
            <a:hlinkClick r:id="rId15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1">
            <a:hlinkClick r:id="rId16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2">
            <a:hlinkClick r:id="rId17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3">
            <a:hlinkClick r:id="rId18"/>
          </p:cNvPr>
          <p:cNvSpPr/>
          <p:nvPr/>
        </p:nvSpPr>
        <p:spPr>
          <a:xfrm>
            <a:off x="586908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4">
            <a:hlinkClick r:id="rId19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5">
            <a:hlinkClick r:id="rId20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>
            <a:hlinkClick r:id="rId21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">
            <a:hlinkClick r:id="rId22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8">
            <a:hlinkClick r:id="rId23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">
            <a:hlinkClick r:id="rId24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0">
            <a:hlinkClick r:id="rId25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1">
            <a:hlinkClick r:id="rId26"/>
          </p:cNvPr>
          <p:cNvSpPr/>
          <p:nvPr/>
        </p:nvSpPr>
        <p:spPr>
          <a:xfrm>
            <a:off x="7524720" y="23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2">
            <a:hlinkClick r:id="rId27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3">
            <a:hlinkClick r:id="rId28"/>
          </p:cNvPr>
          <p:cNvSpPr/>
          <p:nvPr/>
        </p:nvSpPr>
        <p:spPr>
          <a:xfrm>
            <a:off x="4213080" y="53020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4">
            <a:hlinkClick r:id="rId29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5">
            <a:hlinkClick r:id="rId30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6">
            <a:hlinkClick r:id="rId31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7">
            <a:hlinkClick r:id="rId32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9">
            <a:hlinkClick r:id="rId33"/>
          </p:cNvPr>
          <p:cNvSpPr/>
          <p:nvPr/>
        </p:nvSpPr>
        <p:spPr>
          <a:xfrm>
            <a:off x="971640" y="234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3">
            <a:hlinkClick r:id="rId34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7" name="AutoShape 37"/>
          <p:cNvGrpSpPr/>
          <p:nvPr/>
        </p:nvGrpSpPr>
        <p:grpSpPr>
          <a:xfrm>
            <a:off x="536400" y="542880"/>
            <a:ext cx="1451160" cy="1236600"/>
            <a:chOff x="536400" y="542880"/>
            <a:chExt cx="1451160" cy="1236600"/>
          </a:xfrm>
        </p:grpSpPr>
        <p:pic>
          <p:nvPicPr>
            <p:cNvPr id="208" name="AutoShape 37" descr=""/>
            <p:cNvPicPr/>
            <p:nvPr/>
          </p:nvPicPr>
          <p:blipFill>
            <a:blip r:embed="rId1"/>
            <a:stretch/>
          </p:blipFill>
          <p:spPr>
            <a:xfrm>
              <a:off x="53640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39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8"/>
          <p:cNvGrpSpPr/>
          <p:nvPr/>
        </p:nvGrpSpPr>
        <p:grpSpPr>
          <a:xfrm>
            <a:off x="2189160" y="542880"/>
            <a:ext cx="1449360" cy="1236600"/>
            <a:chOff x="2189160" y="542880"/>
            <a:chExt cx="1449360" cy="1236600"/>
          </a:xfrm>
        </p:grpSpPr>
        <p:pic>
          <p:nvPicPr>
            <p:cNvPr id="211" name="AutoShape 38" descr=""/>
            <p:cNvPicPr/>
            <p:nvPr/>
          </p:nvPicPr>
          <p:blipFill>
            <a:blip r:embed="rId2"/>
            <a:stretch/>
          </p:blipFill>
          <p:spPr>
            <a:xfrm>
              <a:off x="2189160" y="542880"/>
              <a:ext cx="1449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19564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39"/>
          <p:cNvGrpSpPr/>
          <p:nvPr/>
        </p:nvGrpSpPr>
        <p:grpSpPr>
          <a:xfrm>
            <a:off x="3773520" y="542880"/>
            <a:ext cx="1450800" cy="1236600"/>
            <a:chOff x="3773520" y="542880"/>
            <a:chExt cx="1450800" cy="1236600"/>
          </a:xfrm>
        </p:grpSpPr>
        <p:pic>
          <p:nvPicPr>
            <p:cNvPr id="214" name="AutoShape 39" descr=""/>
            <p:cNvPicPr/>
            <p:nvPr/>
          </p:nvPicPr>
          <p:blipFill>
            <a:blip r:embed="rId3"/>
            <a:stretch/>
          </p:blipFill>
          <p:spPr>
            <a:xfrm>
              <a:off x="377352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780000" y="5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b6bcf"/>
                  </a:solidFill>
                  <a:latin typeface="Arial"/>
                </a:rPr>
                <a:t>10: (-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AutoShape 40"/>
          <p:cNvGrpSpPr/>
          <p:nvPr/>
        </p:nvGrpSpPr>
        <p:grpSpPr>
          <a:xfrm>
            <a:off x="5430960" y="542880"/>
            <a:ext cx="1450800" cy="1236600"/>
            <a:chOff x="5430960" y="542880"/>
            <a:chExt cx="1450800" cy="1236600"/>
          </a:xfrm>
        </p:grpSpPr>
        <p:pic>
          <p:nvPicPr>
            <p:cNvPr id="217" name="AutoShape 40" descr=""/>
            <p:cNvPicPr/>
            <p:nvPr/>
          </p:nvPicPr>
          <p:blipFill>
            <a:blip r:embed="rId4"/>
            <a:stretch/>
          </p:blipFill>
          <p:spPr>
            <a:xfrm>
              <a:off x="5430960" y="542880"/>
              <a:ext cx="145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43564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41"/>
          <p:cNvGrpSpPr/>
          <p:nvPr/>
        </p:nvGrpSpPr>
        <p:grpSpPr>
          <a:xfrm>
            <a:off x="7156440" y="542880"/>
            <a:ext cx="1451160" cy="1236600"/>
            <a:chOff x="7156440" y="542880"/>
            <a:chExt cx="1451160" cy="1236600"/>
          </a:xfrm>
        </p:grpSpPr>
        <p:pic>
          <p:nvPicPr>
            <p:cNvPr id="220" name="AutoShape 41" descr=""/>
            <p:cNvPicPr/>
            <p:nvPr/>
          </p:nvPicPr>
          <p:blipFill>
            <a:blip r:embed="rId5"/>
            <a:stretch/>
          </p:blipFill>
          <p:spPr>
            <a:xfrm>
              <a:off x="7156440" y="542880"/>
              <a:ext cx="1451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64360" y="549360"/>
              <a:ext cx="1440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2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3995640" y="90792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 :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730872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3: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8">
            <a:hlinkClick r:id="rId6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0">
            <a:hlinkClick r:id="rId7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1">
            <a:hlinkClick r:id="rId8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2">
            <a:hlinkClick r:id="rId9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3">
            <a:hlinkClick r:id="rId10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5">
            <a:hlinkClick r:id="rId11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>
            <a:hlinkClick r:id="rId12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7">
            <a:hlinkClick r:id="rId13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8">
            <a:hlinkClick r:id="rId14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9">
            <a:hlinkClick r:id="rId15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0">
            <a:hlinkClick r:id="rId16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1">
            <a:hlinkClick r:id="rId17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2">
            <a:hlinkClick r:id="rId18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3">
            <a:hlinkClick r:id="rId19"/>
          </p:cNvPr>
          <p:cNvSpPr/>
          <p:nvPr/>
        </p:nvSpPr>
        <p:spPr>
          <a:xfrm>
            <a:off x="586908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4">
            <a:hlinkClick r:id="rId20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5">
            <a:hlinkClick r:id="rId21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6">
            <a:hlinkClick r:id="rId22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7">
            <a:hlinkClick r:id="rId23"/>
          </p:cNvPr>
          <p:cNvSpPr/>
          <p:nvPr/>
        </p:nvSpPr>
        <p:spPr>
          <a:xfrm>
            <a:off x="421164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>
            <a:hlinkClick r:id="rId24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>
            <a:hlinkClick r:id="rId25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0">
            <a:hlinkClick r:id="rId26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1">
            <a:hlinkClick r:id="rId27"/>
          </p:cNvPr>
          <p:cNvSpPr/>
          <p:nvPr/>
        </p:nvSpPr>
        <p:spPr>
          <a:xfrm>
            <a:off x="752472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2">
            <a:hlinkClick r:id="rId28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3">
            <a:hlinkClick r:id="rId29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4">
            <a:hlinkClick r:id="rId30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5">
            <a:hlinkClick r:id="rId31"/>
          </p:cNvPr>
          <p:cNvSpPr/>
          <p:nvPr/>
        </p:nvSpPr>
        <p:spPr>
          <a:xfrm>
            <a:off x="5867280" y="522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6">
            <a:hlinkClick r:id="rId32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>
            <a:hlinkClick r:id="rId33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9">
            <a:hlinkClick r:id="rId34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>
            <a:hlinkClick r:id="rId35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7:32Z</dcterms:created>
  <dc:creator>Математика</dc:creator>
  <dc:description/>
  <dc:language>en-US</dc:language>
  <cp:lastModifiedBy>школа</cp:lastModifiedBy>
  <dcterms:modified xsi:type="dcterms:W3CDTF">2020-12-13T19:12:05Z</dcterms:modified>
  <cp:revision>10</cp:revision>
  <dc:subject/>
  <dc:title>Слайд 1</dc:title>
</cp:coreProperties>
</file>